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FD-3940-4F4C-88A7-13F2B6BB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077-A8AD-4C35-9958-9D5B4D8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0F0-F3CC-46D9-9E6A-261BAAF8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20D-7EE9-40B9-ADF5-3559E930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F75-2A21-4124-9E74-17D9474E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98A-1554-4F91-A3AF-BD963EEA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7E1-82AA-40BC-B3B4-B1927D2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E3A4-9D41-4428-B0B6-A937F449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152C-E4FA-4892-AA42-09EDC8B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621-C646-4414-AADE-DC250C9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D8B-810E-4EC5-8206-BFCF77A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2A0-E238-4B7E-A6CC-A88EDF4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28C-CD10-4DE2-B524-95C1229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6FA-73D3-4635-9DB3-3572C47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21F4-A162-431B-9635-FC73FD2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894-1F87-4454-B871-C5B2EA62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D140-B6E2-43BE-99CA-A2712B5D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48F-9CA2-481B-944C-1328AF2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426-6464-499E-9D76-2AA0F41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CE7-5EC6-4479-A636-85BBB082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E71-3481-4B90-B630-6D33E47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0DA-B42A-4698-904F-8B764D8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A7F-EDBB-4087-BFEA-456760F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7E5-DC6C-45F1-9396-3A7CB11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14F-9743-4B56-BA23-55A3266E8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9B6-6BD5-4116-9F26-1636547D7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Michelle Grasbe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garaje. Es,increible y estupe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444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ff1a1"/>
                </a:solidFill>
                <a:latin typeface="Times New Roman"/>
              </a:rPr>
              <a:t>T</a:t>
            </a:r>
            <a:r>
              <a:rPr b="0" lang="en-US" sz="9600" spc="-1" strike="noStrike">
                <a:solidFill>
                  <a:srgbClr val="ab98fa"/>
                </a:solidFill>
                <a:latin typeface="Times New Roman"/>
              </a:rPr>
              <a:t>H</a:t>
            </a:r>
            <a:r>
              <a:rPr b="0" lang="en-US" sz="9600" spc="-1" strike="noStrike">
                <a:solidFill>
                  <a:srgbClr val="cccc00"/>
                </a:solidFill>
                <a:latin typeface="Times New Roman"/>
              </a:rPr>
              <a:t>E </a:t>
            </a:r>
            <a:r>
              <a:rPr b="0" lang="en-US" sz="96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9600" spc="-1" strike="noStrike">
                <a:solidFill>
                  <a:srgbClr val="f4b99e"/>
                </a:solidFill>
                <a:latin typeface="Times New Roman"/>
              </a:rPr>
              <a:t>N</a:t>
            </a:r>
            <a:r>
              <a:rPr b="0" lang="en-US" sz="9600" spc="-1" strike="noStrike">
                <a:solidFill>
                  <a:srgbClr val="eda5d8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305320" cy="3789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371600"/>
            <a:ext cx="6705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a Casa. Es, una antigua,grande,y boni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Es, lujosa,bella,y nuev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562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comedor. Es, moderno,bonito,y estupen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. Es, antigua,nuevo,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bano.Es,grande y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562720" cy="361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1676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cuarto. Es, lujoso, viejo, y fabulos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atio. Es,impresionante y bell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Photo of outdoor hot tub.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jardin. Es, grande y bo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0:03Z</dcterms:created>
  <dc:creator>grasbergermic</dc:creator>
  <dc:description/>
  <dc:language>en-US</dc:language>
  <cp:lastModifiedBy>grasbergermic</cp:lastModifiedBy>
  <dcterms:modified xsi:type="dcterms:W3CDTF">2013-04-04T17:15:34Z</dcterms:modified>
  <cp:revision>6</cp:revision>
  <dc:subject/>
  <dc:title>La Casa</dc:title>
</cp:coreProperties>
</file>